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FAB-2BB5-425E-8505-16D43ED7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5EA-1AF7-4136-9619-9F91553A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722-AB81-4F0C-A3D2-4F1502DE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928-29F0-42FC-A0DC-10BE17DB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2F03-9A04-408C-836C-050BDDD2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50CC-3ABB-49CB-951C-B9E3DC1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9CB-8B2F-487F-8788-F1328872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19A7-71FF-4CE7-AF68-E54CE68C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83C4-0963-40E3-908C-D148001B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782C-8D9C-41E9-8273-D525E71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381-2108-4969-B2C9-63C13617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3E5-FA03-4699-ACA9-E3037EE9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4645-B815-49F1-96E4-C9306E41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C620-EA59-43ED-8DA6-1C90EF26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0989-C86A-44EB-AD24-5199E1EF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C846-FDCB-480A-BDA0-C89C22DF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410-A7D9-402C-8BFE-2647521F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5E14-C440-4FF0-9668-F15EBE79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A390-287D-4683-841A-9EA4800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1B86-BFF8-43D6-8A3E-2167303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4B8A3-5E1D-4DD0-AC0A-468E67D9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D8EC-C7EE-4F0F-8E5A-571284D6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637-8084-4F18-80D9-7E3CAF7C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7C22-56CC-440E-BFF1-40BB3E15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C5C90-EE4B-4A0A-843E-51104BE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9969-3135-4B05-8A15-685886C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BA7B-078F-4528-BA02-DAE3835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1048-CEE3-4646-984F-111EB4EC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CD7E-A843-4D45-B6D1-2BB7B5A2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CA4B-5623-4278-A0C1-0F91F4E2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FB78-B8DD-4A2F-816B-1899CDA4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58A2-A7EA-4BED-8CF3-B577E30B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88B1-6C89-4395-AE32-AD49CD1F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871-5F99-42FE-9B4C-4C4781B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4973-E84E-43FE-AF78-6CE1741F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6EC9-5904-4C97-BEC9-7E815AE9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C5C6-0194-490E-AA70-254EBE8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261F-AE29-45B1-99BF-A3D3B4E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6D26-D276-450F-AD0B-DD5110D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3CF4-E037-4960-ACD8-30FDA25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8B0C-8BF9-466C-B9F2-7A5D2455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B835-F7D8-4FA2-A06D-3454B60F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E4C7-E221-4D79-B171-5BF9B308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BE3A9-41E6-46E5-ABFE-B1734D8D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FDE-8C5E-476D-8E78-CBDC0AE1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3AC8E-0CAE-4EB7-B299-78E6875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3C7F2-9BCB-4397-B890-7F7F9F6D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7380D-F699-4544-A23F-477E869E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36DC-F962-4618-AE8B-F9BEB7BF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EB60-007E-41E5-9CA6-DB817F6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1FE9-7DC1-4EDB-9D46-80E00F2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B0DD5-A137-45A4-8046-1F8BAE4C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16B75-38D7-43F7-92F7-079E3B2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EEE6-C2BC-4534-8101-15F2E0DD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B28B-F01B-4061-AE2D-6FAA22C1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66D-3DF2-4043-BBB4-7F5AA0E7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C4E4-9A70-4F83-A75D-13C381EF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111-67D9-4354-9300-66E0362E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0E1-30DB-4248-9EF5-84F6756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7C9-5364-4526-AA23-9A77031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3C9B-BA7F-48FD-9C36-2125BEF5488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2A7-E856-4B8A-9EEB-545C8B1F12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8C61-25FB-40AA-8174-4121AFACE71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1F7-0FB7-4189-BDCF-73E90E70E1E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20E2-3A3C-4A77-B034-FA480139BF3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Chapter 33 &amp; 34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Crowding In, Crowding Out, </a:t>
            </a:r>
            <a:br>
              <a:rPr sz="2000"/>
            </a:b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Phillips Curve, Rational Expec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hy do recessions add to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national debt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in a recession, we use expansionary fiscal policy – which means that G spending increases, taxes decrease, and transfers increase, thus adding to the national deb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http://zfacts.com/metaPage/lib/National-Debt-GDP.gif"/>
          <p:cNvPicPr/>
          <p:nvPr/>
        </p:nvPicPr>
        <p:blipFill>
          <a:blip r:embed="rId1"/>
          <a:stretch/>
        </p:blipFill>
        <p:spPr>
          <a:xfrm>
            <a:off x="609480" y="3657600"/>
            <a:ext cx="4114800" cy="25844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2"/>
          <p:cNvGrpSpPr/>
          <p:nvPr/>
        </p:nvGrpSpPr>
        <p:grpSpPr>
          <a:xfrm>
            <a:off x="5257800" y="3505320"/>
            <a:ext cx="1523880" cy="2532240"/>
            <a:chOff x="5257800" y="3505320"/>
            <a:chExt cx="1523880" cy="2532240"/>
          </a:xfrm>
        </p:grpSpPr>
        <p:grpSp>
          <p:nvGrpSpPr>
            <p:cNvPr id="226" name="Group 10"/>
            <p:cNvGrpSpPr/>
            <p:nvPr/>
          </p:nvGrpSpPr>
          <p:grpSpPr>
            <a:xfrm>
              <a:off x="5257800" y="3505320"/>
              <a:ext cx="1523880" cy="2532240"/>
              <a:chOff x="5257800" y="3505320"/>
              <a:chExt cx="1523880" cy="2532240"/>
            </a:xfrm>
          </p:grpSpPr>
          <p:sp>
            <p:nvSpPr>
              <p:cNvPr id="227" name="TextBox 4"/>
              <p:cNvSpPr/>
              <p:nvPr/>
            </p:nvSpPr>
            <p:spPr>
              <a:xfrm>
                <a:off x="5410080" y="3505320"/>
                <a:ext cx="13716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Verdana"/>
                  </a:rPr>
                  <a:t>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5"/>
              <p:cNvSpPr/>
              <p:nvPr/>
            </p:nvSpPr>
            <p:spPr>
              <a:xfrm>
                <a:off x="5486400" y="4343400"/>
                <a:ext cx="99072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6"/>
              <p:cNvSpPr/>
              <p:nvPr/>
            </p:nvSpPr>
            <p:spPr>
              <a:xfrm>
                <a:off x="5257800" y="5181840"/>
                <a:ext cx="13716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Verdana"/>
                  </a:rPr>
                  <a:t>Tr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1"/>
            <p:cNvGrpSpPr/>
            <p:nvPr/>
          </p:nvGrpSpPr>
          <p:grpSpPr>
            <a:xfrm>
              <a:off x="6248520" y="3657600"/>
              <a:ext cx="457200" cy="2133720"/>
              <a:chOff x="6248520" y="3657600"/>
              <a:chExt cx="457200" cy="2133720"/>
            </a:xfrm>
          </p:grpSpPr>
          <p:sp>
            <p:nvSpPr>
              <p:cNvPr id="231" name="Up Arrow 7"/>
              <p:cNvSpPr/>
              <p:nvPr/>
            </p:nvSpPr>
            <p:spPr>
              <a:xfrm>
                <a:off x="6248520" y="3657600"/>
                <a:ext cx="457200" cy="533520"/>
              </a:xfrm>
              <a:prstGeom prst="upArrow">
                <a:avLst>
                  <a:gd name="adj1" fmla="val 50000"/>
                  <a:gd name="adj2" fmla="val 50015"/>
                </a:avLst>
              </a:prstGeom>
              <a:solidFill>
                <a:srgbClr val="f07f09"/>
              </a:solidFill>
              <a:ln w="4248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Up Arrow 8"/>
              <p:cNvSpPr/>
              <p:nvPr/>
            </p:nvSpPr>
            <p:spPr>
              <a:xfrm>
                <a:off x="6248520" y="5257800"/>
                <a:ext cx="457200" cy="533520"/>
              </a:xfrm>
              <a:prstGeom prst="upArrow">
                <a:avLst>
                  <a:gd name="adj1" fmla="val 50000"/>
                  <a:gd name="adj2" fmla="val 50015"/>
                </a:avLst>
              </a:prstGeom>
              <a:solidFill>
                <a:srgbClr val="f07f09"/>
              </a:solidFill>
              <a:ln w="4248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Down Arrow 9"/>
              <p:cNvSpPr/>
              <p:nvPr/>
            </p:nvSpPr>
            <p:spPr>
              <a:xfrm>
                <a:off x="6248520" y="4495680"/>
                <a:ext cx="457200" cy="533520"/>
              </a:xfrm>
              <a:prstGeom prst="downArrow">
                <a:avLst>
                  <a:gd name="adj1" fmla="val 50000"/>
                  <a:gd name="adj2" fmla="val 50015"/>
                </a:avLst>
              </a:prstGeom>
              <a:solidFill>
                <a:srgbClr val="f07f09"/>
              </a:solidFill>
              <a:ln w="4248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952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rowding In &amp; Crowding Ou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rowding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 spending increases AD, RGDP and PL, so D for Money increases, due to P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ncreases i rates &amp; 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i rates causes a decrease in I spending which lowers 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rowding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ion in G causes businesses to gain confidence and produce more to take advantage of the growing econom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Up Arrow 3"/>
          <p:cNvSpPr/>
          <p:nvPr/>
        </p:nvSpPr>
        <p:spPr>
          <a:xfrm>
            <a:off x="7543800" y="1447920"/>
            <a:ext cx="228600" cy="304560"/>
          </a:xfrm>
          <a:prstGeom prst="upArrow">
            <a:avLst>
              <a:gd name="adj1" fmla="val 50000"/>
              <a:gd name="adj2" fmla="val 49961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onetizing the Deb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575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cause AD shifts right, the SCM shifts the AS curve to the left due to a rise in costs of production, which lowers profitability and 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ed can control i rates using Expansionary Monetary Policy to bring i rates 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will shift AD curve even farther out, increasing the national defic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ed is buying bonds that the gov’t is selling to fund their defic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d creates money from government’s deb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etizing the debt is more inflationary than non-monetized deb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hillips Curv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Straight Connector 10"/>
          <p:cNvSpPr/>
          <p:nvPr/>
        </p:nvSpPr>
        <p:spPr>
          <a:xfrm>
            <a:off x="2133720" y="2895480"/>
            <a:ext cx="3429000" cy="22860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16"/>
          <p:cNvCxnSpPr/>
          <p:nvPr/>
        </p:nvCxnSpPr>
        <p:spPr>
          <a:xfrm>
            <a:off x="2133720" y="3048120"/>
            <a:ext cx="1296000" cy="9151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grpSp>
        <p:nvGrpSpPr>
          <p:cNvPr id="242" name="Group 23"/>
          <p:cNvGrpSpPr/>
          <p:nvPr/>
        </p:nvGrpSpPr>
        <p:grpSpPr>
          <a:xfrm>
            <a:off x="685800" y="2666880"/>
            <a:ext cx="6858000" cy="3567240"/>
            <a:chOff x="685800" y="2666880"/>
            <a:chExt cx="6858000" cy="3567240"/>
          </a:xfrm>
        </p:grpSpPr>
        <p:sp>
          <p:nvSpPr>
            <p:cNvPr id="243" name="Straight Connector 4"/>
            <p:cNvSpPr/>
            <p:nvPr/>
          </p:nvSpPr>
          <p:spPr>
            <a:xfrm flipH="1">
              <a:off x="1369800" y="2666880"/>
              <a:ext cx="2880" cy="304812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6"/>
            <p:cNvSpPr/>
            <p:nvPr/>
          </p:nvSpPr>
          <p:spPr>
            <a:xfrm>
              <a:off x="1371600" y="5713560"/>
              <a:ext cx="5029200" cy="14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7"/>
            <p:cNvSpPr/>
            <p:nvPr/>
          </p:nvSpPr>
          <p:spPr>
            <a:xfrm rot="16200000">
              <a:off x="194040" y="3690720"/>
              <a:ext cx="13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f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8"/>
            <p:cNvSpPr/>
            <p:nvPr/>
          </p:nvSpPr>
          <p:spPr>
            <a:xfrm>
              <a:off x="2666880" y="586584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Unemployment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12"/>
            <p:cNvSpPr/>
            <p:nvPr/>
          </p:nvSpPr>
          <p:spPr>
            <a:xfrm>
              <a:off x="3580560" y="2741400"/>
              <a:ext cx="75960" cy="297360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3"/>
            <p:cNvSpPr/>
            <p:nvPr/>
          </p:nvSpPr>
          <p:spPr>
            <a:xfrm>
              <a:off x="3733920" y="2742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Long r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4"/>
            <p:cNvSpPr/>
            <p:nvPr/>
          </p:nvSpPr>
          <p:spPr>
            <a:xfrm>
              <a:off x="5486400" y="495144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hort R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7"/>
            <p:cNvSpPr/>
            <p:nvPr/>
          </p:nvSpPr>
          <p:spPr>
            <a:xfrm rot="2164200">
              <a:off x="1566720" y="3479040"/>
              <a:ext cx="20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ontractionary Poli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Straight Arrow Connector 19"/>
            <p:cNvCxnSpPr/>
            <p:nvPr/>
          </p:nvCxnSpPr>
          <p:spPr>
            <a:xfrm flipH="1" flipV="1">
              <a:off x="3733560" y="3883680"/>
              <a:ext cx="1676880" cy="1143720"/>
            </a:xfrm>
            <a:prstGeom prst="straightConnector1">
              <a:avLst/>
            </a:prstGeom>
            <a:ln w="9360">
              <a:solidFill>
                <a:srgbClr val="ff8000"/>
              </a:solidFill>
              <a:miter/>
              <a:tailEnd len="med" type="arrow" w="med"/>
            </a:ln>
          </p:spPr>
        </p:cxnSp>
        <p:sp>
          <p:nvSpPr>
            <p:cNvPr id="252" name="TextBox 20"/>
            <p:cNvSpPr/>
            <p:nvPr/>
          </p:nvSpPr>
          <p:spPr>
            <a:xfrm rot="2097000">
              <a:off x="3688200" y="4295160"/>
              <a:ext cx="232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xpansionary Poli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ight Arrow 21"/>
            <p:cNvSpPr/>
            <p:nvPr/>
          </p:nvSpPr>
          <p:spPr>
            <a:xfrm rot="10800000">
              <a:off x="3657240" y="5334120"/>
              <a:ext cx="685800" cy="295200"/>
            </a:xfrm>
            <a:prstGeom prst="rightArrow">
              <a:avLst>
                <a:gd name="adj1" fmla="val 50000"/>
                <a:gd name="adj2" fmla="val 50023"/>
              </a:avLst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22"/>
            <p:cNvSpPr/>
            <p:nvPr/>
          </p:nvSpPr>
          <p:spPr>
            <a:xfrm>
              <a:off x="4419720" y="533268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Natural Rate of Unem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5" name="Straight Arrow Connector 22"/>
          <p:cNvCxnSpPr/>
          <p:nvPr/>
        </p:nvCxnSpPr>
        <p:spPr>
          <a:xfrm flipV="1">
            <a:off x="2514600" y="2894760"/>
            <a:ext cx="991440" cy="229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6" name="TextBox 23"/>
          <p:cNvSpPr/>
          <p:nvPr/>
        </p:nvSpPr>
        <p:spPr>
          <a:xfrm>
            <a:off x="2671200" y="2819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25"/>
          <p:cNvCxnSpPr/>
          <p:nvPr/>
        </p:nvCxnSpPr>
        <p:spPr>
          <a:xfrm flipH="1">
            <a:off x="3733560" y="4799520"/>
            <a:ext cx="1219680" cy="229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8" name="TextBox 26"/>
          <p:cNvSpPr/>
          <p:nvPr/>
        </p:nvSpPr>
        <p:spPr>
          <a:xfrm>
            <a:off x="4042800" y="472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60480" y="3733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tructural Defici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088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 deficit would look if we were 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ll employ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gov’t receives as mu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ax reven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expecte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en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ly as much as exp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osts of Closing Recessionary/Inflationary Gap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Expansionary Fiscal Policy during a rec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deficit – Increases G spending, decreases taxes, increases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ntractionary Fiscal Policy during an inf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G spending, increases taxes, decreases transfers, which DECREASES THE DEFICIT and BALANCES THE BUDG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ational Expecta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560" y="533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ecasts that are the best that can be made given the available data, not necessarily corr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correct, short run PC is vertica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tion can be produced without the need for high unemploy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Keynesians and Liberals want to fight unemploymen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lieve AD and SR PC curve is fl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employment is more costly than inf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ctations react sluggishly, SCM is unreliable and sl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ational Expecta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0663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Rational Expectation Adherent and Conservatives are more eager to fight infl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AD and SR PC is stee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ation more costly than 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s on region of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ctations react quick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M works smoothly and rapid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3:49Z</dcterms:created>
  <dc:creator>sth_user</dc:creator>
  <dc:description/>
  <dc:language>en-US</dc:language>
  <cp:lastModifiedBy>HP Authorized Customer</cp:lastModifiedBy>
  <dcterms:modified xsi:type="dcterms:W3CDTF">2009-01-27T22:33:25Z</dcterms:modified>
  <cp:revision>8</cp:revision>
  <dc:subject/>
  <dc:title>Chapter 33 &amp; 34</dc:title>
</cp:coreProperties>
</file>